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420D0-6452-444B-AAA4-EEEA3083E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7F0C6-7DA5-4AB6-B215-22DDC4BBB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2D056-9356-43AD-92D7-C012CE7D3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2EEC9-6C84-46EC-B4DF-5C18DDBC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B43FD-AD91-49E3-BD08-795091AE6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014A3-C211-4C7D-A446-4C697B437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0DE4A-4120-477F-AE30-41CD9990C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E3C6A-57CC-439F-8630-C58799FE9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045FA-305E-4E07-AFCE-690367816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36A26-14DA-4876-B9A4-6AA101D22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AAADB-3664-4A15-AF55-F77791A8A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C2F3A-6860-49C6-A806-77F1D14C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641AC-1E4B-4DE2-8FC8-F2ABEDC71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3B067-6279-4A9A-86F1-ECBFB9354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17757-8E45-4203-9A65-3888C0DF6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A3CE0-898C-46F7-BE6F-461545A38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DB0ED-D0BE-4A72-B3E7-12F219CD5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8E4D9-717C-4DE8-BF1C-FE86B7DD7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1B3D6-264E-4856-9A97-6B71E0553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8D75-D3BE-4F03-9D8B-A7131D10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1DA21-EB70-4988-8F0D-B8BC08985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891F-7615-4864-8F2B-3A264F085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DBF4-BB50-47D1-9E18-429B0EB4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05ED-7DE7-41B9-809C-52B9AB749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040F-590E-48C5-B078-0486CDA1CC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5AE2-4274-40B9-AC02-8BB94B1241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IMFONIA</a:t>
            </a:r>
            <a:r>
              <a:rPr b="1" lang="en-US" sz="1800" spc="-1" strike="noStrike">
                <a:solidFill>
                  <a:srgbClr val="ccecff"/>
                </a:solidFill>
                <a:latin typeface="Arial"/>
              </a:rPr>
              <a:t> </a:t>
            </a:r>
            <a:endParaRPr b="0" lang="en-US" sz="1800" spc="-1" strike="noStrike">
              <a:solidFill>
                <a:srgbClr val="ccecff"/>
              </a:solidFill>
              <a:latin typeface="Arial"/>
            </a:endParaRPr>
          </a:p>
        </p:txBody>
      </p:sp>
      <p:sp>
        <p:nvSpPr>
          <p:cNvPr id="21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Arial"/>
            </a:endParaRPr>
          </a:p>
        </p:txBody>
      </p:sp>
      <p:sp>
        <p:nvSpPr>
          <p:cNvPr id="21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0"/>
                                        </p:tgtEl>
                                        <p:attrNameLst>
                                          <p:attrName>style.visibility</p:attrName>
                                        </p:attrNameLst>
                                      </p:cBhvr>
                                      <p:to>
                                        <p:strVal val="visible"/>
                                      </p:to>
                                    </p:set>
                                    <p:animEffect filter="dissolve" transition="in">
                                      <p:cBhvr additive="repl">
                                        <p:cTn id="7" dur="5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Arial"/>
            </a:endParaRPr>
          </a:p>
        </p:txBody>
      </p:sp>
      <p:sp>
        <p:nvSpPr>
          <p:cNvPr id="21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15" name="Picture 10" descr=""/>
          <p:cNvPicPr/>
          <p:nvPr/>
        </p:nvPicPr>
        <p:blipFill>
          <a:blip r:embed="rId1">
            <a:grayscl/>
          </a:blip>
          <a:stretch/>
        </p:blipFill>
        <p:spPr>
          <a:xfrm>
            <a:off x="5214960" y="928800"/>
            <a:ext cx="1440000" cy="14396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Arial"/>
            </a:endParaRPr>
          </a:p>
        </p:txBody>
      </p:sp>
      <p:sp>
        <p:nvSpPr>
          <p:cNvPr id="217"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a3</cp:lastModifiedBy>
  <dcterms:modified xsi:type="dcterms:W3CDTF">2012-06-09T23:23:01Z</dcterms:modified>
  <cp:revision>47</cp:revision>
  <dc:subject/>
  <dc:title>SALARIUL</dc:title>
</cp:coreProperties>
</file>